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410-A686-4679-94FD-389B03C5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90E-DB98-4734-89B1-C3595AB9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498-CAC8-43A2-BFA0-832C3142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97A-475B-4424-A2B8-0B6751DD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A0A-70B2-4F54-B203-1714705C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0FF-1A2B-435A-9CDD-7F21BB2D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722-ABA4-4AD9-A40C-F3D0F777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9A9-CBD5-4D5A-9B96-272A2252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4B5-E490-40EB-9B2E-1FCAB532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B21-2F35-49ED-AFAF-32A9BDA8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516-9D7F-4D5B-9557-84F6118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E3A-4C99-4558-B17C-9FBDB590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26C5-27C4-4175-8B69-2E6DA228F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234680" y="261972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ngravers MT"/>
              </a:rPr>
              <a:t>An animal that growled and grunted sometimes and talked sometimes and lived in London and walked about the streets and wasn’t made a show of and wasn’t led by anybody and didn’t live in a menagerie and was never killed in a market and was not a horse or an ass or a cow or a bull or a tiger or a dog or a pig or a cat or a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067000" y="2705040"/>
            <a:ext cx="4191120" cy="3352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lies a humble Scroo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ry Christmas”  R.I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Andrew</cp:lastModifiedBy>
  <dcterms:modified xsi:type="dcterms:W3CDTF">2011-12-05T23:57:03Z</dcterms:modified>
  <cp:revision>9</cp:revision>
  <dc:subject/>
  <dc:title>Slide 1</dc:title>
</cp:coreProperties>
</file>